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gif" ContentType="image/gi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7162-63A2-45C9-8946-1A7BC42E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167-E86F-4A84-9E1B-4DC1FE36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38A9-51BE-42D8-AAB1-F5D80A69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3B4-C9DA-4C30-A3CC-2325E45F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93F9-6FDE-4F7D-BA2F-5636A9A0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3AFE-7B74-4CE5-875B-0B4ADEA2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99E-A1DF-4EC8-90F7-84B139BC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6FF9-1B3F-4BAA-A9CA-8B717AA8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1D8F-8170-4AD8-B5C6-D9001512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2D0-A29D-49E9-BDF3-31EF40A7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00D2-4A53-4420-8B73-87062708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737-12E0-4ECA-8905-8ADED1E8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35B0-0BAF-4720-8A69-D3724C6AD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304920"/>
            <a:ext cx="4510080" cy="33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egends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968720" y="2286000"/>
            <a:ext cx="4175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1371600"/>
            <a:ext cx="723888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ytelling is common to every culture because people like to listen to stori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ytelling has been used for thousands of yea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Teacher\Local Settings\Temporary Internet Files\Content.IE5\LZCTRMYJ\MCj04357890000[1].wmf"/>
          <p:cNvPicPr/>
          <p:nvPr/>
        </p:nvPicPr>
        <p:blipFill>
          <a:blip r:embed="rId1"/>
          <a:stretch/>
        </p:blipFill>
        <p:spPr>
          <a:xfrm>
            <a:off x="6324480" y="3581280"/>
            <a:ext cx="2219400" cy="1658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447920" y="457200"/>
            <a:ext cx="621036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orytelling and Legen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itle 1" descr=""/>
          <p:cNvPicPr/>
          <p:nvPr/>
        </p:nvPicPr>
        <p:blipFill>
          <a:blip r:embed="rId1"/>
          <a:stretch/>
        </p:blipFill>
        <p:spPr>
          <a:xfrm>
            <a:off x="533520" y="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gend is a semi-true story, which has been passed on from person-to-person and has important mean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gend usually includes an element of truth, or is based on historic facts, but with 'mythical or magical qualities'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ends usually invol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roic charac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fantastic places and often involve the beliefs of the culture they come f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C:\Documents and Settings\Teacher\Local Settings\Temporary Internet Files\Content.IE5\BJO6J87X\MMAG00604_0000[1].gif"/>
          <p:cNvPicPr/>
          <p:nvPr/>
        </p:nvPicPr>
        <p:blipFill>
          <a:blip r:embed="rId2"/>
          <a:stretch/>
        </p:blipFill>
        <p:spPr>
          <a:xfrm>
            <a:off x="6172200" y="0"/>
            <a:ext cx="266688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 For activity 1, you will read the poem, “The Legend of Paul Bunyan.”  As you read the poem, pay attention to the characteristics of Bunya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question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he a real man?  Why or why no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you think he became a leg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14600" y="0"/>
            <a:ext cx="4495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ctivity #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5880" y="2971800"/>
            <a:ext cx="18129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leg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you think of any legends?  Let’s make a list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19520" y="304920"/>
            <a:ext cx="35049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ctivity #2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 for Activity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you will create your own legend poem using the same format as the poem you just rea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person/thing that is a legend.  Use physical and mental character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setting in your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graphic organiz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09480" y="685800"/>
            <a:ext cx="8058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aving Trouble Getting Started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8:41:45Z</dcterms:created>
  <dc:creator>FCPS</dc:creator>
  <dc:description/>
  <dc:language>en-US</dc:language>
  <cp:lastModifiedBy>FCPS</cp:lastModifiedBy>
  <dcterms:modified xsi:type="dcterms:W3CDTF">2009-04-01T20:40:17Z</dcterms:modified>
  <cp:revision>3</cp:revision>
  <dc:subject/>
  <dc:title>Slide 1</dc:title>
</cp:coreProperties>
</file>